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453-412F-45A6-9822-8A07954FCA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F911-E6E5-437C-981A-3311B13FE2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232-1D99-455A-8B1C-4BC56DA5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134-469D-4B34-AFD9-0232330B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C40-D902-4BCA-8B5D-121E5700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418-08E6-4783-B5E5-7EE69555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BA5-5280-43F5-815D-5BC9F84D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649-3D36-4368-96CD-E7042B58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D69-6A8A-4E46-9F2E-F71578F5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E89-D8B9-46C2-9C86-3882002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283-2A7F-4541-92E1-498BD72F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E7A-9E3A-4ABC-8F63-A8D791F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E8E-35C4-48BF-BAAB-3526E78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7D1-5EEA-4532-B659-2AB5056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1B9-6A5D-4306-92B7-50048EA3C8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-1044720" y="0"/>
          <a:ext cx="11738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4720" y="0"/>
                    <a:ext cx="11738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9:48:26Z</dcterms:created>
  <dc:creator>Steven</dc:creator>
  <dc:description/>
  <dc:language>en-US</dc:language>
  <cp:lastModifiedBy>Steven</cp:lastModifiedBy>
  <dcterms:modified xsi:type="dcterms:W3CDTF">2009-10-06T20:37:46Z</dcterms:modified>
  <cp:revision>2</cp:revision>
  <dc:subject/>
  <dc:title>幻灯片 1</dc:title>
</cp:coreProperties>
</file>